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A859-E6DE-412C-95F2-B97C4F6B1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E257-5B58-40E4-B857-4006A472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DF77-01BA-461C-8AA6-ABC2D0E5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FFBF-486F-43A1-B6A1-70D087C18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6C4F-D603-4AD3-8148-4C3B2A3E8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094E-BDF9-4196-B96B-33A8533E9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7F3-E191-4873-8145-C356EF27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F1C-B40C-4DE3-A78F-53D2718C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05E-C893-49CC-BA00-00DC3421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688-408D-443F-8D4E-D28E70A3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F01-EEEB-43E8-A404-25493390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5F1-1461-4CFC-AF2B-CC2A0F08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784-BAE5-45C2-88EF-647E4D3C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EAD-7345-4B71-B49D-4F78A6AF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966-4A9C-4F0A-AAE3-F0655B77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B15-E4FC-4AEE-B17A-0E6A90EF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ACC-0367-4E9D-9901-DAD26682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13F-DFFC-4A89-A22B-B609F298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649C-B0E7-4304-BC1C-B84D1FDE4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sier Environmental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-based Educatio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lace-based Educ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rocess of using the local community and environment as a starting point to teach language arts, mathematics, social studies, science, and other subjects across the curriculum”- David So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quiry-ba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standards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worl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s students in thei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-c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vi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and coopera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use Place-based edu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academic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so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environmental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ill we do “Our Place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21:25Z</dcterms:created>
  <dc:creator>vdoud</dc:creator>
  <dc:description/>
  <dc:language>en-US</dc:language>
  <cp:lastModifiedBy>Valerie Doud</cp:lastModifiedBy>
  <dcterms:modified xsi:type="dcterms:W3CDTF">2009-01-24T01:46:17Z</dcterms:modified>
  <cp:revision>5</cp:revision>
  <dc:subject/>
  <dc:title>Our Place</dc:title>
</cp:coreProperties>
</file>